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6CE7-591B-4226-8906-C5408916B9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A84B-24AD-407A-88C7-C1433EB855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85AA-1437-4075-B782-6122CCA549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430D-D0D6-4090-9576-377FFBD78C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74E6-5D40-4A5F-B93A-069E4E38EC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88FC-2E7C-4BA8-B017-14E905FCF7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3AB8-FA7B-442A-8B38-C6132A7228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71E1-7B7C-4D86-AD32-2F53EAFCB8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3FDC-1E84-4E1E-86E9-BC1303AF6A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A8A2-3219-4725-AF7A-E5DE54858A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FAAE-2871-4C1E-9131-BE838F6D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E0EC-9595-450A-9572-FAAC3BB7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08F6-C36D-494A-8138-1D966F19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2D89-5EE2-443A-A7D5-DF3F5DAB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8D9D-ACA7-41A6-B912-9DC60A94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4E87-8B87-42F9-931E-AFD4419E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E980-0ECC-4A10-84ED-FEB697A2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3A3B-DD8E-4E51-81AD-E0870373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C782-91B6-4BAF-8917-B6713104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396D-A9E2-438E-9837-7AA9565A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2EDC-9F5B-4175-A98C-36A03544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CBA7-18D6-4D36-A6CF-F66C86E3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60EE-ED44-498B-952E-D3D9B0FE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F624-0653-44D4-80A7-7605C933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B793-2E73-45E0-A163-8F25B241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17AA-6157-4AB9-86FB-6BDC18C1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C53B-D0C3-4B95-96D8-F2B802CC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B621-927B-4B46-902B-0FC7463D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6FB6-85DD-41E4-A8BF-FF11B23E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624C-F98D-4B4F-A863-1AE8AD96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E236-9364-45DE-A0D4-52457F1D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A2ED-42C5-4F70-9660-FA28D790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B4FF-AD27-4B74-98CB-614C932F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E59F-8D32-47B4-9E84-F490C088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5C57-DCEC-4BA7-88D4-451530CE5D6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BC9E-AFC6-409A-B1EB-5E7FC569C58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0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324000" y="2276640"/>
            <a:ext cx="2624040" cy="1131840"/>
          </a:xfrm>
          <a:prstGeom prst="rect">
            <a:avLst/>
          </a:prstGeom>
          <a:solidFill>
            <a:srgbClr val="a0a40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ль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ф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348000" y="2276640"/>
            <a:ext cx="2224080" cy="1131840"/>
          </a:xfrm>
          <a:prstGeom prst="rect">
            <a:avLst/>
          </a:prstGeom>
          <a:solidFill>
            <a:srgbClr val="a0a40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мбри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156360" y="2257560"/>
            <a:ext cx="2736720" cy="1131840"/>
          </a:xfrm>
          <a:prstGeom prst="rect">
            <a:avLst/>
          </a:prstGeom>
          <a:solidFill>
            <a:srgbClr val="a0a40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леонт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785880" y="3933720"/>
            <a:ext cx="3143160" cy="1130400"/>
          </a:xfrm>
          <a:prstGeom prst="rect">
            <a:avLst/>
          </a:prstGeom>
          <a:solidFill>
            <a:srgbClr val="a0a40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огеограф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AutoShape 6"/>
          <p:cNvCxnSpPr>
            <a:stCxn id="90" idx="0"/>
          </p:cNvCxnSpPr>
          <p:nvPr/>
        </p:nvCxnSpPr>
        <p:spPr>
          <a:xfrm flipV="1">
            <a:off x="4460040" y="2261880"/>
            <a:ext cx="30240" cy="15120"/>
          </a:xfrm>
          <a:prstGeom prst="straightConnector1">
            <a:avLst/>
          </a:prstGeom>
          <a:ln w="9360">
            <a:solidFill>
              <a:srgbClr val="808000"/>
            </a:solidFill>
            <a:miter/>
          </a:ln>
        </p:spPr>
      </p:cxnSp>
      <p:sp>
        <p:nvSpPr>
          <p:cNvPr id="94" name="Line 7"/>
          <p:cNvSpPr/>
          <p:nvPr/>
        </p:nvSpPr>
        <p:spPr>
          <a:xfrm>
            <a:off x="4486320" y="1300320"/>
            <a:ext cx="293688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1743120" y="1300320"/>
            <a:ext cx="274320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486320" y="1300320"/>
            <a:ext cx="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2560680" y="466560"/>
            <a:ext cx="3851280" cy="1283040"/>
          </a:xfrm>
          <a:prstGeom prst="rect">
            <a:avLst/>
          </a:prstGeom>
          <a:solidFill>
            <a:srgbClr val="d2be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з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волю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1"/>
          <p:cNvSpPr/>
          <p:nvPr/>
        </p:nvSpPr>
        <p:spPr>
          <a:xfrm>
            <a:off x="5286240" y="3929040"/>
            <a:ext cx="3214800" cy="1143000"/>
          </a:xfrm>
          <a:prstGeom prst="rect">
            <a:avLst/>
          </a:prstGeom>
          <a:solidFill>
            <a:srgbClr val="a0a4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лекулярно-генет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3"/>
          <p:cNvSpPr/>
          <p:nvPr/>
        </p:nvSpPr>
        <p:spPr>
          <a:xfrm flipH="1">
            <a:off x="3142800" y="1714680"/>
            <a:ext cx="71640" cy="22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8"/>
          <p:cNvSpPr/>
          <p:nvPr/>
        </p:nvSpPr>
        <p:spPr>
          <a:xfrm>
            <a:off x="5785560" y="1714680"/>
            <a:ext cx="71640" cy="22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928960" y="950760"/>
            <a:ext cx="59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Фауны и флоры различных островов также отличаются от материковых, причем, чем раньше была потеряна связь с материком и чем дальше они расположены друг от друга, тем больше разница между обитателями островов и матер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2.Особенности флоры и фауны островов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(Мадагаскар,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Галапагосские  остров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6" descr="игуана"/>
          <p:cNvPicPr/>
          <p:nvPr/>
        </p:nvPicPr>
        <p:blipFill>
          <a:blip r:embed="rId1"/>
          <a:stretch/>
        </p:blipFill>
        <p:spPr>
          <a:xfrm>
            <a:off x="324000" y="1916280"/>
            <a:ext cx="2879640" cy="20890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144" name="Прямоугольник 12"/>
          <p:cNvSpPr/>
          <p:nvPr/>
        </p:nvSpPr>
        <p:spPr>
          <a:xfrm>
            <a:off x="3924360" y="1989000"/>
            <a:ext cx="496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Следы геологического единства Южной Америки, Африки, острова Мадагаскар сохраняются в современной фауне. Например, ящерицы-игуаны Мадагаскара и Южной Аме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3"/>
          <p:cNvSpPr/>
          <p:nvPr/>
        </p:nvSpPr>
        <p:spPr>
          <a:xfrm>
            <a:off x="971640" y="1484280"/>
            <a:ext cx="129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Игу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324000" y="4508640"/>
            <a:ext cx="2879640" cy="216036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7"/>
          <p:cNvSpPr/>
          <p:nvPr/>
        </p:nvSpPr>
        <p:spPr>
          <a:xfrm>
            <a:off x="250920" y="407664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Кошачий лем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8"/>
          <p:cNvSpPr/>
          <p:nvPr/>
        </p:nvSpPr>
        <p:spPr>
          <a:xfrm>
            <a:off x="4067280" y="4581360"/>
            <a:ext cx="48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Лемуры — семейство эндемичных приматов Мадагаскара, насчитывающее порядка 75 видов, включая 17 вымерш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762120" y="2781360"/>
            <a:ext cx="4097160" cy="3186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2"/>
          <p:cNvSpPr/>
          <p:nvPr/>
        </p:nvSpPr>
        <p:spPr>
          <a:xfrm>
            <a:off x="755640" y="234936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Слоновая черепа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3384360" cy="523404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4"/>
          <p:cNvSpPr/>
          <p:nvPr/>
        </p:nvSpPr>
        <p:spPr>
          <a:xfrm>
            <a:off x="5076720" y="476280"/>
            <a:ext cx="35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Галапагосский пингв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3"/>
          <a:stretch/>
        </p:blipFill>
        <p:spPr>
          <a:xfrm>
            <a:off x="755640" y="404640"/>
            <a:ext cx="3240000" cy="201636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7"/>
          <p:cNvSpPr/>
          <p:nvPr/>
        </p:nvSpPr>
        <p:spPr>
          <a:xfrm>
            <a:off x="755640" y="18900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Голубоногая олу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928960" y="879480"/>
            <a:ext cx="59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пример, на Мадагаскаре нет высших обезьян, типичных для Африканского континента, но сохранились лемуры. Это объясняется появлением водной преграды между континентом и островом в то время, когда еще не было высших обезья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8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"/>
          <p:cNvPicPr/>
          <p:nvPr/>
        </p:nvPicPr>
        <p:blipFill>
          <a:blip r:embed="rId3"/>
          <a:stretch/>
        </p:blipFill>
        <p:spPr>
          <a:xfrm>
            <a:off x="14292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446040" y="131760"/>
            <a:ext cx="82296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71680" y="1214280"/>
            <a:ext cx="82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чему эволюционная парадигма признана учеными всего ми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428760" y="2286000"/>
            <a:ext cx="83581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Географические закономерности распределения живых организмов  на Земле отражают состояние континентов, их  расположение в разные исторические периоды и являются убедительными доказательствами эволюции органического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399960" y="189000"/>
            <a:ext cx="81327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571680" y="1071720"/>
            <a:ext cx="8143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е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Биогеографические доказательства эволю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142920" y="3071880"/>
            <a:ext cx="87152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Це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основе данных биогеографии понять,  поч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основе данных биогеографии убедиться в том, что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___________________________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эволюционное учение признано учеными всего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heImg" descr="@@94732"/>
          <p:cNvPicPr/>
          <p:nvPr/>
        </p:nvPicPr>
        <p:blipFill>
          <a:blip r:embed="rId1"/>
          <a:stretch/>
        </p:blipFill>
        <p:spPr>
          <a:xfrm>
            <a:off x="6215040" y="0"/>
            <a:ext cx="2786040" cy="185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2"/>
          <a:stretch/>
        </p:blipFill>
        <p:spPr>
          <a:xfrm>
            <a:off x="214200" y="5072040"/>
            <a:ext cx="1428840" cy="1590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"/>
          <p:cNvPicPr/>
          <p:nvPr/>
        </p:nvPicPr>
        <p:blipFill>
          <a:blip r:embed="rId3"/>
          <a:stretch/>
        </p:blipFill>
        <p:spPr>
          <a:xfrm>
            <a:off x="1571760" y="5243400"/>
            <a:ext cx="1450800" cy="1614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toy04_15591bi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57680" y="5214960"/>
            <a:ext cx="1285560" cy="144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71524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Задания на «3»:   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Ответить на вопросы: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1. Что изучает биогеография? Назовите ученых – основоположников биогеографии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2. Дайте определение понятию «биогеографическая область». По какому принципу ученые выделяют биографические области?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3. Рассмотрите рис. 155. Какие биографические области выделяют ученые? Назовите местонахождения каждой из этих областей.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4. В чем причина сходства или различия флоры и фауны разных биогеографических областей? Приведите примеры, доказывающие сходство или различие различных биогеографических областей?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5. Закончите предложение: к биогеографическим доказательствам эволюции органического мира относят _________________________________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5000760" y="1049400"/>
            <a:ext cx="374328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хность Земли А.Уоллес разделил на шесть биогеографических облас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алеоарктическу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Европа, Северная Африка, Северная и Средняя Азия, Япо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еоарктическу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еверная Америк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Эфиоп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Африка к югу от Сахар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ндо-Малай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Южная Азия и Малайский архипелаг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еотропиче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Центральная и Южная Америк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встралий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2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4392720" cy="2806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Биогеографические обл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2" descr=""/>
          <p:cNvPicPr/>
          <p:nvPr/>
        </p:nvPicPr>
        <p:blipFill>
          <a:blip r:embed="rId1"/>
          <a:stretch/>
        </p:blipFill>
        <p:spPr>
          <a:xfrm>
            <a:off x="298440" y="1123920"/>
            <a:ext cx="8416800" cy="5376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8785440" cy="26478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446040" y="131760"/>
            <a:ext cx="82296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987640" y="817560"/>
            <a:ext cx="58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уна и флора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алеоарктичес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еоарктичес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астей сходны, хотя и между ними находится Берингов пролив. Сходство объясняется тем, что в недалеком прошлом существовал сухопутный мост —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Берингов переше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Эти две области объединены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Голарктиче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987640" y="888840"/>
            <a:ext cx="58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зличия в растительном и животном мире между Неоарктической и Неотропической областями объясняются тем, что Панамский перешеек появился недавно. Только немногие виды сумели проникнуть в Северную Америку (броненосец, опоссум) и из Северной Америки в Юж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0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987640" y="1000080"/>
            <a:ext cx="58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встралия отделилась от остальных материков более 100 млн. лет назад, тогда еще не было плацентарных животных, и изоляция сохранила примитивных яйцекладущих и сумчатых млекопита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0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2:00:01Z</dcterms:created>
  <dc:creator>Pimenov AV</dc:creator>
  <dc:description/>
  <dc:language>en-US</dc:language>
  <cp:lastModifiedBy> Пользователь</cp:lastModifiedBy>
  <dcterms:modified xsi:type="dcterms:W3CDTF">2012-11-16T03:14:36Z</dcterms:modified>
  <cp:revision>64</cp:revision>
  <dc:subject/>
  <dc:title>Тема: Доказательства эволюции</dc:title>
</cp:coreProperties>
</file>